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521-36A2-4DCD-94B5-CA7C1561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A28-A5C1-465E-A6AA-E7AD24E3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4D2-E36D-466B-B62F-97492B04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E3E-7E3E-4E00-B109-0943731B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599-6953-40AD-A5CC-0D86DCAB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FEA-7C10-456A-936F-B7B1EEE5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B0A-B14C-415E-8A65-2A081579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4B3-3180-4954-8CA7-A16ABD68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3E7-9311-48BB-89C3-ECB30D30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F2DE-B096-4940-9F5C-77CBCF19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8A6-7440-4447-A066-EAB43849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111-6DB6-4B09-982B-CBC291A0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ADEA-E103-4B4E-916C-2BD1C23250C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C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01F5-B148-4D64-AFC2-554881637E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byte(unsigned char byte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char(ASCII[byte_data/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char(ASCII[byte_data%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word(unsigned int word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word_data/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word_data%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CCE-4024-4FC0-9098-34687C2850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void i2s(int i,char *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sign;unsigned char len;char *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sign='+';len=0;p=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f(i&lt;0){sign='-';i=-i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do{*s=(i%10)+'0';s++;len++;i/=10;}while(i!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f(sign=='-'){*s='-';s++;len++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for(i=0;i&lt;len/2;i++){p[len]=p[i];p[i]=p[len-1-i];p[len-1-i]=p[len]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p[len]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void clcd_put_integer(int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2s(i,s);clcd_put_string(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8C9-9AC8-4E44-BFF5-A298A9C7F1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-ex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RS P2_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RW P2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E  P2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DB 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include "clcd.c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void main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nt 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unsigned char 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t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msg[17]="Hello, 8051!  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lcd_initializ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lcd_set_cursor(1,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lcd_put_string("Chin-Shiuh Shieh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15A-649D-4073-B7AA-E0B3809B6F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-ex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for(j=0;j&lt;16;j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set_cursor(0,0);clcd_put_string(ms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for(i=-32768;i&lt;32767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for(tmp=msg[0],i=1;i&lt;16;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msg[i-1]=msg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msg[15]=t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cls();clcd_set_cursor(0,0);clcd_put_string(ms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set_cursor(1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12);clcd_put_string("h *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34);clcd_put_string("h =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integer(12*3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1==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967-5E11-4A85-A2B6-A4AA49FA34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lcd.c is a library of Character Liquid Crystal Display (CLCD) functions for Small Device C Compiler (SDC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00E-83B3-49E5-B5F5-150C1DD8DB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 Functions for SDC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57560" y="1486080"/>
            <a:ext cx="28288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E8E-BC98-4537-AE45-C91E807B92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haracter LCD (HD44780U-compatible)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W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sbit __at 0xE7 ACC_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code char ASCII[]="0123456789ABCDEF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9D8-8272-49B0-8465-B8786C2F2B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initializ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rite_instruction(unsigned char instructi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ait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cls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set_cursor(unsigned int row,unsigned int colum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char(char 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string(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byte(unsigned char byte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word(unsigned int word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integer(int 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i2s(int i,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7B4-A3A5-4739-9AC5-FCB5137F6D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initializ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3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8-bit interface, 2 lines, 5x7 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display on, cursor on, cursor b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move cursor right when read/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lear display, curso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3F6-D7AD-44AF-BF5F-2937A44E2C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rite_instruction(unsigned char instru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=0;CLCD_RW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=instruction;CLCD_E=1;CLCD_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ait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=0xF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=0;CLCD_RW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E=1;ACC=CLCD_DB;CLCD_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ACC_7==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610-4D40-4A9B-9D40-5ADB81FEE2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cls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set_cursor(unsigned int row,unsigned int colum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instruction=0x8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row==1)instruction+=0x4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nstruction+=colum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instructi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07A-C818-4B4A-9E30-BBAD16CF9C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char(char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=1;CLCD_RW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=c;CLCD_E=1;CLCD_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string(char *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*s!=0){clcd_put_char(*s)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3BB4-07BD-46A8-B088-043E0F579C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謝欽旭</cp:lastModifiedBy>
  <dcterms:modified xsi:type="dcterms:W3CDTF">2011-04-06T17:31:54Z</dcterms:modified>
  <cp:revision>11</cp:revision>
  <dc:subject/>
  <dc:title>UART Functions for SDCC</dc:title>
</cp:coreProperties>
</file>