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766-0916-4540-94A3-3FFB76A9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A51-F419-403F-AEF1-C884A0B8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D7A-D42A-42FD-AAB2-10DD09EE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32C-DE5E-48DA-A9C1-F27451E7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254-1391-490D-B4D2-31D41B18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3D5-9CBE-4EC7-A682-F3A3C71A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5D6-56F7-4BB0-A768-53037FAE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381-8587-422A-9F5E-15C54E95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02C-5D68-48AC-91A7-BD9853D2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445-21C1-4CEB-B579-456AEE24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FC5-53DF-4369-97A9-16C884EC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0DD-C4F0-4B14-B625-F8050CBF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45F5-24B8-4CF5-A43A-8A975904D71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C6F-AAD6-43FD-ACF3-AE94305DC7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dm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dm_speed==0)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Turn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0=1;P2_1=1;P2_2=0;P2_3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dm_direction==0)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Turn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1=1;P2_2=0;P2_0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3=1;for(i=0;i&lt;dm_speed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3=0;for(i=dm_speed;i&lt;100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Turn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0=1;P2_3=0;P2_1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2=1;for(i=0;i&lt;dm_speed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2=0;for(i=dm_speed;i&lt;100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986-C944-4A7B-8029-D6E695E781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sm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29000" y="1781280"/>
            <a:ext cx="4086000" cy="32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334-649C-4920-BCC7-254E380AE8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sm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include "keypad.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sm_control=0x0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sm_step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bit sm_direction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D53-39FC-4442-B74D-71DCBE11B2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sm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while(1==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sm_step=keypad_get_key()*100+keypad_get_key()*10+keypad_get_key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// Step Control: 000~99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if(keypad_get_key()==10)sm_direction=0;else sm_direction=1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// Key 'A' for Turn to Right, others for Turn to Lef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while(sm_step&gt;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if(keypad_check_key()==12)break;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// Key 'C' for ab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if(sm_direction==0){sm_control/=2;if(sm_control==0)sm_control=8;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if(sm_direction==1){sm_control*=2;if(sm_control&gt;8)sm_control=1;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P0=sm_control;for(i=0;i&lt;5000;i++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sm_step--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1A6-1E79-493E-8865-56B9BA855F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eypad.c is a library of 4x4 keypad functions for Small Device C Compiler (SDC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eypaddm.c is an example of controlling DC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eypadsm.c is an example of controlling stepper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39B-A115-422E-90F4-45CEA5386E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pad Functions for SDCC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24120" y="1890720"/>
            <a:ext cx="3695760" cy="30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DDA-5333-41CF-8AEB-0EFD834D92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Keypad functions (with 74C9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NULL 0x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key_echo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check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byt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 keypad_get_word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 keypad_get_integ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ED8C-B3A0-48FF-957F-C590575C04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key_echo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552-B3A5-402A-92BD-6B0418309F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check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PAD_DO|=0x1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KEYPAD_DA=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key=KEYPAD_DO;key&amp;=0x0F;while(KEYPAD_DA==1);return key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return KEYPAD_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byt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return(keypad_get_key_echo()*16+keypad_get_key_echo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keypad_get_word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return(keypad_get_byte()*256+keypad_get_byt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615-10E1-4D68-8DE8-CF4F6A9035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keypad_get_integer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valu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(key=keypad_get_key())&lt;0x0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alue=value*10+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return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51F-F968-4066-90B1-D2ADFB579C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dm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33400" y="1909800"/>
            <a:ext cx="5677200" cy="303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35E-691A-4948-9766-191470805E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dm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include "keypad.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bit dm_direction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dm_speed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1=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=keypad_check_ke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key&lt;=9)dm_speed=key*10;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‘0’~’9’ for Speed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key==10)dm_direction=0; 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‘A’ for Turn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key==11)dm_direction=1;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‘B’ for Turn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0BF-385B-49A1-91B4-5709D5E36C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謝欽旭</cp:lastModifiedBy>
  <dcterms:modified xsi:type="dcterms:W3CDTF">2011-04-09T17:02:39Z</dcterms:modified>
  <cp:revision>27</cp:revision>
  <dc:subject/>
  <dc:title>UART Functions for SDCC</dc:title>
</cp:coreProperties>
</file>