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1D2-C655-4E82-BFE7-7CCCF735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C2C-703F-49D8-8EDE-AAAC1887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3DF-CEFB-4DAB-952D-1A0C8605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D52-6CF7-4728-A932-47036089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859-5FF7-417D-8A0B-ECEDB85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AA7-8587-41AF-9788-8DC69BC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9FC-3582-4C96-BE14-38D0760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AF3-F75E-4555-90F9-97745C1A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A3F-CB02-43A9-822D-400930A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8BE-BF57-4A86-95AF-E8A9658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6F8-6AF6-442C-8668-7627790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15A-87ED-400F-87D8-FA67884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871-2D94-4F05-94B5-A6F2B539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A0B-68A7-4312-9F54-B955C881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5E9-7AE9-4FDF-9CD6-051DB7056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5B5B-FBC6-4ED1-A40F-8E521319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Keypad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0CE-5804-44BF-8B48-3AB1E5E3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6B2-7676-49B0-A642-BC90FC44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7D7-A47D-4336-985A-3D3EB0250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FC0E-8446-4855-8B1F-71B933C9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5T03:41:15Z</dcterms:modified>
  <cp:revision>28</cp:revision>
  <dc:subject/>
  <dc:title>UART Functions for SDCC</dc:title>
</cp:coreProperties>
</file>