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157-6040-4F1C-BB88-AE3597842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DB9-6847-4554-912E-6F18D5C2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41F-7B92-4BB7-95F1-F3D982A6A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43E6-592E-49A7-85A4-F2C8B44D4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FB37-C971-4515-B873-DFE16F8B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A493-F0A9-4A4E-8B11-63101ADC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1470-906A-456F-BE8D-61FFEC04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3914-295F-496C-A755-7A44EFA2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A4EB-B369-4FE1-B043-3E80A31EF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256C-47AD-4944-B436-C74F4DA8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3E60-EFD1-472F-BEDD-4D6C899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8329-F9A9-4DFB-8A45-D54FB6D5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8FA0-EB3B-475D-91C8-C8211A6342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6A1E-CDA9-4981-979A-62433988AF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7021-6029-44FF-BDB7-B1571E0BF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78CB-709F-4291-AA70-3DD8E6066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#include "uart.c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oid main( void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t i,j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initialize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Name: ");uart_ge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Hello, ");uart_put_string(s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i: ");i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string("j: ");j=uart_get_integer(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);uart_put_string(" *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j);uart_put_string(" = 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uart_put_integer(i*j);uart_put_char('\n'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D15A7-8A3E-4608-B514-2DD4DEFE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art.c is a library of Universal Asynchronous Receiver/Transmitter (UART) functions for Small Device C Compiler (SDCC), including character, string, integer I/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a Term Pro V2.3, by T. Teranishi, is a free software terminal emulator supporting serial port (RS232) and TCP/IP (telnet) conn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2D805-8651-4710-8AB1-B1418EDF7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RS232"/>
          <p:cNvPicPr/>
          <p:nvPr/>
        </p:nvPicPr>
        <p:blipFill>
          <a:blip r:embed="rId1"/>
          <a:stretch/>
        </p:blipFill>
        <p:spPr>
          <a:xfrm>
            <a:off x="2171880" y="1847880"/>
            <a:ext cx="48006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8BBB-32FF-4500-A25E-2A11E841A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s for SDCC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_initialize() should be called before using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UART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s2i(char *s)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 uart_get_integer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word(unsigned int 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__code char uart_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AA1C-F1E5-43A4-8222-8CC890E74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CON&amp;=0x7F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SMOD of PCON, No Double Baud R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MOD&amp;=0x2F;TMOD|=0x2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imer1 to 8-bit auto reload mode for Baud Rate Gen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1=0xFD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Baud Rate to 9600 bps for 11.0592M H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M0=0;SM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UART to Mode 1 (8-bit UA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N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REN of SCON to Enable UART 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1=1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et TR1 of TCON to Start Timer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I=0;RI=0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lear TI/RI to Get Ready to Send/Rece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D481F-421D-4529-A7C2-0A32BECEA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char(char c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Character to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BUF=c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TI==0);T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(void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uart_get_char_echo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Character from UART with Echo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RI==0);RI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put_char(SBU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SBU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6E7F-71E0-4892-90E6-1E2785A82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Put String to UART, Require uart_put_cha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uart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ge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Get String from UART, Require uart_get_char_echo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((*s)=uart_get_char_echo())!=13)s++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*s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16FE-725E-4116-8278-5076B365A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i2s(int i,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Integer to 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(i=0;i&lt;len/2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p[len]=p[i];p[i]=p[len-1-i];p[len-1-i]=p[len]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oid uart_put_integer(int 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i2s(i,s);uart_pu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日期版面配置區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頁尾版面配置區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8027-C50C-4292-8D9F-88606CBFD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art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s2i(char *s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Convert String to Inte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i=0;char sign='+'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*s=='-'){sign='-'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(*s!=0){i=i*10+(*s-'0'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sign=='-')i=-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uart_get_integer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uart_get_string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uart_s2i(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csshieh</cp:lastModifiedBy>
  <dcterms:modified xsi:type="dcterms:W3CDTF">2021-11-03T16:25:23Z</dcterms:modified>
  <cp:revision>11</cp:revision>
  <dc:subject/>
  <dc:title>UART Functions for SDCC</dc:title>
</cp:coreProperties>
</file>