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0AF-7DB2-4017-B56B-A41FA368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161-0FB3-4602-A95B-6311E2AD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EE3-F723-4E67-BD18-5BE761D5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FC7-25BB-4A82-A337-B0DCDA30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BFF-7D51-4187-A6CE-E77335AD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1D8-F8A3-4585-942A-6EFB8653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6D9-BA87-4115-A6B6-4A400A7F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66F-8527-4911-86D9-EC103B6C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A1B-2F14-4F6B-BC0D-C535CA6D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3AC-A390-414B-A0A0-B4146122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ADD-6FB5-4677-A657-29B55E8C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1CB-F87E-48B0-BCA6-32094567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2B4E-42AB-4726-8CD7-093B04E41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925560" y="757080"/>
            <a:ext cx="72928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x xxxx xxxx 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0000 0000 0000 = 6000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1 1111 1111 1111 = 7FFF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21:15Z</dcterms:created>
  <dc:creator>謝欽旭</dc:creator>
  <dc:description/>
  <dc:language>en-US</dc:language>
  <cp:lastModifiedBy>csshieh</cp:lastModifiedBy>
  <dcterms:modified xsi:type="dcterms:W3CDTF">2018-12-14T12:51:08Z</dcterms:modified>
  <cp:revision>4</cp:revision>
  <dc:subject/>
  <dc:title>投影片 1</dc:title>
</cp:coreProperties>
</file>