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1C55-86EA-4B47-92AB-BFEF47005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6F64-8FDD-4A92-9727-2E0A21D6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4C04-55A7-4574-ADDE-55840B9C4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57B7-036B-494D-A20D-B760267F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DBD1-EBB9-4E35-AD45-E3EDAB176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577B-11C0-4669-A398-319600DE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8A39-BF23-47BF-9825-1E1020C7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6566-3BC3-4E7E-998B-F613E58B6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AFE8-E1E6-47CD-A926-F50B89B5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4B3D-251A-4F68-A27A-6198B70C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A1D3-5DDC-432F-8273-34727D4C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EA2B-71D7-4F77-B03F-9DA792F7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Spring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.-S. Shieh, EC, KUAS, Taiw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63AA-245D-40F0-982D-4A4335A492E9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-Shiuh Shie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FAA5-F049-482A-A1ED-FD053324E5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/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char(ASCII[byte_data%16]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/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word_data%25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B163-FAA9-4F5C-9563-C74D01B6141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i2s(int i,char *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ign;unsigned char len;char *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sign='+';len=0;p=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i&lt;0){sign='-';i=-i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do{*s=(i%10)+'0';s++;len++;i/=10;}while(i!=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f(sign=='-'){*s='-';s++;len++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for(i=0;i&lt;len/2;i++){p[len]=p[i];p[i]=p[len-1-i];p[len-1-i]=p[len]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p[len]=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clcd_put_integer(int 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s[7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2s(i,s);clcd_put_string(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BC35-9F64-43BB-A9A9-C22AF76064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&lt;at89x51.h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S P2_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RW P2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E  P2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define CLCD_DB 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#include "clcd.c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void main(vo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int  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unsigned char 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tm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har msg[17]="Hello, 8051!    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initializ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Courier New"/>
              </a:rPr>
              <a:t>clcd_put_string("Chin-Shiuh Shieh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345-E2EF-40DB-BFC7-C32DAB9AD18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-ex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j=0;j&lt;16;j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i=-32768;i&lt;32767;i++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for(tmp=msg[0],i=1;i&lt;16;i++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i-1]=msg[i]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msg[15]=t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cls();clcd_set_cursor(0,0);clcd_put_string(msg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set_cursor(1,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12);clcd_put_string("h *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byte(34);clcd_put_string("h = "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put_integer(12*34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1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A660-267F-4FA1-B562-F88CDE0B87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clcd.c is a library of Character Liquid Crystal Display (CLCD) functions for Small Device C Compiler (SDCC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1D84-1BAF-4463-AF14-CBA54F2317A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 Functions for SDC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157560" y="1486080"/>
            <a:ext cx="2828880" cy="4390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AF9E-A8A0-4D12-8B78-4E5A57211F9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haracter LCD (HD44780U-compatible) fun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by CHin-Shiuh Shieh on 2011-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W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2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#define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sbit __at 0xE7 ACC_7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__code char ASCII[]="0123456789ABCDEF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DC4-165F-4AF7-B6D4-D44EBCABE4E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Function Prototy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byte(unsigned char byte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word(unsigned int word_data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integer(int 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i2s(int i,char *s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2AA5-A5E6-4917-9E49-C91F4C836AB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initialize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38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8-bit interface, 2 lines, 5x7 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F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display on, cursor on, cursor blin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6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move cursor right when read/wr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// clear display, cursor h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5EEC-ABE4-4C55-A731-F9EA65D666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rite_instruction(unsigned char instructi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instruction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wait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0xFF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0;CLCD_RW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E=1;ACC=CLCD_DB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ACC_7==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D29-3B30-44DD-A665-5503E26997B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cls(vo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0x01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set_cursor(unsigned int row,unsigned int colum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unsigned int instruction=0x8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f(row==1)instruction+=0x4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instruction+=colum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rite_instruction(instruction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88AFC-B368-4114-B116-8BDAC2F06D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clcd.c (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char(char 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wai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RS=1;CLCD_RW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CLCD_DB=c;CLCD_E=1;CLCD_E=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void clcd_put_string(char *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while(*s!=0){clcd_put_char(*s);s++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AEF5-56D8-4E9D-9435-8A318D481F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6T16:36:20Z</dcterms:created>
  <dc:creator>謝欽旭</dc:creator>
  <dc:description/>
  <dc:language>en-US</dc:language>
  <cp:lastModifiedBy>謝欽旭</cp:lastModifiedBy>
  <dcterms:modified xsi:type="dcterms:W3CDTF">2011-04-06T17:31:54Z</dcterms:modified>
  <cp:revision>11</cp:revision>
  <dc:subject/>
  <dc:title>UART Functions for SDCC</dc:title>
</cp:coreProperties>
</file>