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44E-74E1-46AD-8CBB-F948EB0E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E82-DC8E-441B-B20E-174BA5A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5D9-BE91-4BF1-A965-93CF52D8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58E-2803-428E-BA21-675CC5FD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39F-E4BD-4BCA-AFA1-24567101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E9A-B9E3-44CD-9D30-5D1BB93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17D-39AA-4AC6-A7BD-468786F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0E9-93EC-4B62-B529-FFC73FA7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775-7FA4-48D8-B56D-BC96CB45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AC1-E829-4473-B7DD-014B267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D88-2766-45FF-9370-786AE95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82E-9413-4A60-BE79-09AC11D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A35-762A-4AEA-B5EE-D8184BCD9F5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1E4-2B77-47C3-92A7-50C71D375E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speed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1=1;P2_2=0;P2_3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direction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=1;P2_2=0;P2_0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3=0;P2_1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ADD-65B2-4BAF-82D1-4149EB7DBF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29000" y="1781280"/>
            <a:ext cx="40860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71D-5ED3-4A30-93DB-3B7DD4942F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sm_control=0x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sm_step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s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5D2-4F59-4B7B-9309-822C72C05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=keypad_get_key()*100+keypad_get_key()*10+keypad_get_key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Step Control: 000~9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get_key()==10)sm_direction=0;else sm_direction=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A' for Turn to Right, others for Turn to Le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sm_step&gt;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check_key()==12)break;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C' for ab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0){sm_control/=2;if(sm_control==0)sm_control=8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1){sm_control*=2;if(sm_control&gt;8)sm_control=1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P0=sm_control;for(i=0;i&lt;5000;i++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--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509-7493-49C2-9083-E817C8B0FA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24A-A9BA-4C52-A988-A2AF498D9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042-B8A1-421B-984D-875D7168E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F3A-D9C7-4C0E-A9F7-0AB26A468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636-FFEB-49F0-9E41-44FC9A9727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A7B-7500-47DA-A53D-ED82F2DA4B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F39-D8E8-4A1E-81CB-E93D6F3E50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33400" y="1909800"/>
            <a:ext cx="567720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AB8-22C0-4037-BB6B-B3522FFBE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d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dm_speed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check_ke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&lt;=9)dm_speed=key*10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0’~’9’ for Speed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0)dm_direction=0; 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A’ for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1)dm_direction=1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B’ for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54C-5027-4904-A53E-A1E0F9B30A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9T17:02:39Z</dcterms:modified>
  <cp:revision>27</cp:revision>
  <dc:subject/>
  <dc:title>UART Functions for SDCC</dc:title>
</cp:coreProperties>
</file>