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65D-2B3A-4121-BE48-D9ACF95D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3DB-FE4F-4930-8074-46F4465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B6B-1EB7-4BD7-B999-6F4A4D43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331-EDAF-4634-871F-88AC17A6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CAD-856A-4C1B-AAE6-E0795888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50A-5C5B-457A-AD58-95202A74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897-95AA-4E52-B6E4-5E542050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C63-F963-462D-80B5-0FFDBA4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492-764B-4A11-BEE7-FE506729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2C1-60BF-45EF-9BBB-FFF17C3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190-2CA9-424B-9DEB-9DBE63A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B1B-DC6C-4AA8-A1BF-FD3D9D8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111-B43C-4D09-92E7-754B2C11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76E-2B9B-4811-BBEF-95FDB341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BB5-B59C-4A9C-9404-09E20CF0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E9A0-0DD1-4E70-BF11-0ADC531F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Keypad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FE9-815E-45DB-ABD0-68A4A57F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8B7-EC87-46E9-8C5F-37ABF077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4FA-7440-494A-9700-C85FAFDB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DF8-693B-40F7-A2B0-14C99F7D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5T03:41:15Z</dcterms:modified>
  <cp:revision>28</cp:revision>
  <dc:subject/>
  <dc:title>UART Functions for SDCC</dc:title>
</cp:coreProperties>
</file>