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A27F-F479-4602-88E6-F248EE88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4F2A-9035-41E9-B087-ECB12572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0464-DDB1-49AC-A416-345FEF403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8CBE-5680-4DDB-98DE-419572D33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AAE9-0C04-443E-9906-907C6DB8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7E2E-D7A2-400C-A28F-3D70A77E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DA07-37EE-4C7E-8690-13A05295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EB0D-0E24-4B7A-81A2-36AFFB0A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401F-4864-4C04-A4C7-915DC28F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65DB-DE82-410C-B394-713924F8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B182-EEB4-4337-8079-CC838A53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9E02-D149-436C-A169-4760A1CE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3365-EC7F-43A1-9346-1FCB2A0EF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645A-CC45-429C-8638-FC25E6506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-Shiuh Shi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00FE-3A4D-4898-8B0A-B16ED249C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byte(unsigned char byte_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put_char(ASCII[byte_data/16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put_char(ASCII[byte_data%16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word(unsigned int word_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put_byte(word_data/25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put_byte(word_data%25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C785-0717-4641-A730-8901502EC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-ex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at89x51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"uart.c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main( voi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i,j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 s[7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initial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string("Name: ");uart_get_string(s);uart_put_char('\n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string("Hello, ");uart_put_string(s);uart_put_char('\n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string("i: ");i=uart_get_integer();uart_put_char('\n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string("j: ");j=uart_get_integer();uart_put_char('\n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integer(i);uart_put_string(" *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integer(j);uart_put_string(" =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integer(i*j);uart_put_char('\n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(1==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A5F5-FC31-46FF-9AF8-F656D59B9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art.c is a library of Universal Asynchronous Receiver/Transmitter (UART) functions for Small Device C Compiler (SDCC), including character, string, integer I/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a Term Pro V2.3, by T. Teranishi, is a free software terminal emulator supporting serial port (RS232) and TCP/IP (telnet) conn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DCFF-EFC6-473D-8240-94028C227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 Functions for SDC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RS232"/>
          <p:cNvPicPr/>
          <p:nvPr/>
        </p:nvPicPr>
        <p:blipFill>
          <a:blip r:embed="rId1"/>
          <a:stretch/>
        </p:blipFill>
        <p:spPr>
          <a:xfrm>
            <a:off x="2171880" y="1847880"/>
            <a:ext cx="48006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F93A-5E26-47FB-AE99-36FB7F76A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UART functions for SDCC by Chin-Shiuh Shieh on 2011-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uart_initialize() should be called before using U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UART function 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initialize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char(char c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uart_get_char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uart_get_char_echo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string(char *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get_string(char *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i2s(int i,char *s)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onvert Integer to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uart_s2i(char *s)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onvert String to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integer(int 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uart_get_intege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byte(unsigned char byte_dat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word(unsigned int  word_dat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__code char uart_ASCII[]="0123456789ABCDEF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A38D-1D7E-46EF-8691-07DA1E13F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initialize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CON&amp;=0x7F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lear SMOD of PCON, No Double Baud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MOD&amp;=0x2F;TMOD|=0x2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et Timer1 to 8-bit auto reload mode for Baud Rat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1=0xFD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et Baud Rate to 9600 bps for 11.0592M 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M0=0;SM1=1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et UART to Mode 1 (8-bit UA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N=1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et REN of SCON to Enable UART Rece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1=1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et TR1 of TCON to Start Time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=0;RI=0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lear TI/RI to Get Ready to Send/Rece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E0A5-09AC-48A6-88CB-513DBB2D0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char(char c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Put Character to U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BUF=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TI==0);TI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uart_get_char(void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Get Character from U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RI==0);RI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BU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uart_get_char_echo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Get Character from UART with Echo, Require uart_put_char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RI==0);RI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put_char(SBU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BU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6F65-1350-43C1-ACF6-128FED5E9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string(char *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Put String to UART, Require uart_put_char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*s!=0){uart_put_char(*s);s++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get_string(char *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Get String from UART, Require uart_get_char_echo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((*s)=uart_get_char_echo())!=13)s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s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56E7-1C3C-44AE-A6FC-D9BF9D9B9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i2s(int i,char *s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onvert Integer to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sign;unsigned char len;char *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='+';len=0;p=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i&lt;0){sign='-';i=-i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{*s=(i%10)+'0';s++;len++;i/=10;}while(i!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sign=='-'){*s='-';s++;len++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(i=0;i&lt;len/2;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p[len]=p[i];p[i]=p[len-1-i];p[len-1-i]=p[len]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[len]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integer(int 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s[7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i2s(i,s);uart_put_string(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35BA-0244-4238-8BA9-A67365B86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uart_s2i(char *s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onvert String to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=0;char sign='+'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*s=='-'){sign='-';s++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*s!=0){i=i*10+(*s-'0');s++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sign=='-')i=-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uart_get_integer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s[7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get_string(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uart_s2i(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36:20Z</dcterms:created>
  <dc:creator>謝欽旭</dc:creator>
  <dc:description/>
  <dc:language>en-US</dc:language>
  <cp:lastModifiedBy>csshieh</cp:lastModifiedBy>
  <dcterms:modified xsi:type="dcterms:W3CDTF">2021-11-03T16:25:23Z</dcterms:modified>
  <cp:revision>11</cp:revision>
  <dc:subject/>
  <dc:title>UART Functions for SDCC</dc:title>
</cp:coreProperties>
</file>