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B8A-B408-4CA1-A154-BC66576A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713-FFF2-49EA-B4FE-4E6F6121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013-0831-4A89-A24E-CDAD93C8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B16-665C-422C-B072-FE947938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49E-AE13-4D64-B45F-73E17554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B3A-3F79-4D46-8D52-36B8E0C1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F29-A9CF-4C3A-B521-6729CCC7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226-2C76-4CD8-9A19-C32C5A35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397-3FF3-4C96-A909-43AAE16C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E26-FC2F-4A41-B4C4-F017E4F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EC3-FB44-4FEA-B244-6C1DE1C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00E-59EA-4C4A-8D50-295EFCC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C4C1-55C0-4D64-B3D1-2F4349F32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925560" y="757080"/>
            <a:ext cx="72928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x xxxx xxxx 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0000 0000 0000 = 6000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1 1111 1111 1111 = 7FFF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21:15Z</dcterms:created>
  <dc:creator>謝欽旭</dc:creator>
  <dc:description/>
  <dc:language>en-US</dc:language>
  <cp:lastModifiedBy>csshieh</cp:lastModifiedBy>
  <dcterms:modified xsi:type="dcterms:W3CDTF">2018-12-14T12:51:08Z</dcterms:modified>
  <cp:revision>4</cp:revision>
  <dc:subject/>
  <dc:title>投影片 1</dc:title>
</cp:coreProperties>
</file>