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8D5-D3B0-408B-BF2B-08CECAD3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E8E-D1BC-48FD-90B2-CA6C22B5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D20-C4FE-40A0-A64A-4CEE8168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088-37AD-43DA-B382-0697955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D07-D8FB-4568-A5B6-D3474D94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7BF-D599-4A62-8A46-F66E5818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948-08AB-414F-8339-7F89739C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FEC-8555-46CA-87A1-AB8A27E2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898-ABB1-4A52-AEA9-D48011CB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EC5-4169-4BB8-83D6-FAD972C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C3C-B19A-470E-B549-052D3604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38D-5761-4FD0-994C-AB0F8AE7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F0BA-2490-47B8-8852-1E8CB52E508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FDA-3703-4C11-8A27-BBC27CF869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478-25C0-4C08-B062-924F10B0D0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i2s(int i,char *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for(i=0;i&lt;len/2;i++){p[len]=p[i];p[i]=p[len-1-i];p[len-1-i]=p[len]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clcd_put_integer(int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2s(i,s);clcd_put_string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74B-83A2-4EE1-991E-86370C7514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S P2_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W P2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E  P2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DB 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"clcd.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nt 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unsigned char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t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msg[17]="Hello, 8051!  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initializ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put_string("Chin-Shiuh Shieh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F0D-A29C-4BD8-91C5-FC6103558C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j=0;j&lt;16;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i=-32768;i&lt;32767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tmp=msg[0],i=1;i&lt;16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i-1]=msg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15]=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cls();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12);clcd_put_string("h *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34);clcd_put_string("h =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integer(12*3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915-3A68-46FA-8835-B2D8980605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lcd.c is a library of Character Liquid Crystal Display (CLCD)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33B-907F-4268-A0EC-AC9071BD11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57560" y="1486080"/>
            <a:ext cx="28288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6E1-EB42-49CB-92E5-AF321435B6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haracter LCD (HD44780U-compatible)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W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sbit __at 0xE7 ACC_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code char 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E03-3BC5-49CA-A63D-8F4206AF5C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i2s(int i,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01F-3BBA-4795-82E9-F096241278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3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8-bit interface, 2 lines, 5x7 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display on, cursor on, cursor b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move cursor right when read/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ear display, curs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70B-9715-4B4C-94D9-EF3E1E0387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instruction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0xF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=1;ACC=CLCD_DB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ACC_7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E55-31B8-477A-8995-19D84F392D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instruction=0x8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row==1)instruction+=0x4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nstruction+=colum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4F2-7265-40E7-937E-EC702E18C7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1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c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*s!=0){clcd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B57-7BE7-454A-8D1D-23C8122B60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謝欽旭</cp:lastModifiedBy>
  <dcterms:modified xsi:type="dcterms:W3CDTF">2011-04-06T17:31:54Z</dcterms:modified>
  <cp:revision>11</cp:revision>
  <dc:subject/>
  <dc:title>UART Functions for SDCC</dc:title>
</cp:coreProperties>
</file>