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87A-A574-4419-9A6F-E89E8192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15A-8AB5-4E51-83A6-02C5471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3EB-0436-4DFC-AB22-84E38D79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47F-ED94-4013-A050-731E8232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D03-DD06-45AE-9FBD-9EB679C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0A7-6C14-45B2-9D2D-28C403E5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0FF-F4AF-4D24-84C3-F172D06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990-2EE7-4D51-BE5B-121D48D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791-8751-4CA2-94C1-3FAD6791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E05-5B8C-4357-B464-ED01822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36B-ADA4-4CBA-8E89-B1610D0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6F5-B667-4BB3-B238-ABC22D90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125-4BF0-45B6-9335-ADB2C93C948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090-0AD2-4D3F-8662-B9B03C8D4D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speed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1=1;P2_2=0;P2_3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dm_direction==0)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=1;P2_2=0;P2_0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3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=1;P2_3=0;P2_1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1;for(i=0;i&lt;dm_speed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=0;for(i=dm_speed;i&lt;100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F93-2694-43CA-8C88-5F5ACE819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29000" y="1781280"/>
            <a:ext cx="40860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B8D-DC3D-4004-B8E5-A2FB0DF7F7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sm_control=0x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sm_step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s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653-7F4C-42A1-8061-A60A140866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s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=keypad_get_key()*100+keypad_get_key()*10+keypad_get_key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Step Control: 000~9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get_key()==10)sm_direction=0;else sm_direction=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A' for Turn to Right, others for Turn to Le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while(sm_step&gt;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keypad_check_key()==12)break;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// Key 'C' for ab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0){sm_control/=2;if(sm_control==0)sm_control=8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if(sm_direction==1){sm_control*=2;if(sm_control&gt;8)sm_control=1;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P0=sm_control;for(i=0;i&lt;5000;i++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sm_step--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2AB-1270-4A0D-854F-ED88DE7350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pa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.c is a library of 4x4 keypad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dm.c is an example of controlling DC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padsm.c is an example of controlling stepper motor using keyp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E08-4D4B-4171-A8D4-21CF587EC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pad Functions for SDCC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24120" y="1890720"/>
            <a:ext cx="369576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D0-1CDE-47FC-843A-4385A475B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Keypad functions (with 74C9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NULL 0x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word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 keypad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DA5-AEAA-41F6-BB87-BCAE2DA7B6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key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while(KEYPAD_DA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DO;key&amp;=0x0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KEYPAD_DA==1);return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35E-272E-40A6-9E67-2A3BA3B82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check_key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PAD_DO|=0x1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PAD_DA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key=KEYPAD_DO;key&amp;=0x0F;while(KEYPAD_DA==1);return key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KEYPAD_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pad_get_byt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key_echo()*16+keypad_get_key_echo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word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(keypad_get_byte()*256+keypad_get_byt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BFA-0096-4ED4-B68D-8F1309890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keypad_get_integer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valu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(key=keypad_get_key())&lt;0x0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uart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cd_put_char(ASCII[key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alue=value*10+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return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581-6000-4340-9823-92EEE52FA7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33400" y="1909800"/>
            <a:ext cx="5677200" cy="303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6D8-360A-44CB-8033-0F909955ED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keypaddm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O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define KEYPAD_DA P1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#include "keypad.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bit dm_direction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dm_speed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ke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char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key=keypad_check_ke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&lt;=9)dm_speed=key*10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0’~’9’ for Speed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0)dm_direction=0; 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A’ for Turn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key==11)dm_direction=1;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‘B’ for Turn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AC5-B5E1-4E78-BDCD-432C03900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9T17:02:39Z</dcterms:modified>
  <cp:revision>27</cp:revision>
  <dc:subject/>
  <dc:title>UART Functions for SDCC</dc:title>
</cp:coreProperties>
</file>