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8B9-734B-4327-BCFE-4D5DD718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E2-38D4-40F5-8BEA-95AF9166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A9C-17A1-4B55-B610-17B6498D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BFD-5D8F-40AD-B65A-9182C0A9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279-75F5-4194-8016-91D84DA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A57-CC95-431E-9EA4-EBFF178B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A1E-DC8F-4D6F-818A-75D37D5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244-EB8A-4C26-802E-9C2B7253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9ED-1690-4124-A806-196F651E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DE9-971A-4BBC-A828-8D976D8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219-EF78-4A54-BFFB-FA1CE2B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A7B-91D1-409B-85EE-47CFBAC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3D8-970E-4A97-A21D-6E0A6640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375-FBAF-4F00-AB6E-39BBD04F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087-815A-4616-B980-73128395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5C4-50D0-4D2B-901A-18C68E70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Keypad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1CC9-B412-43DF-8BF9-72DBBD71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2DD9-D7F7-4C33-B1D9-57718B90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D20-2FC0-49A3-A426-6EBD50AA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C48-67F0-4D0C-BFC0-D22E2267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5T03:41:15Z</dcterms:modified>
  <cp:revision>28</cp:revision>
  <dc:subject/>
  <dc:title>UART Functions for SDCC</dc:title>
</cp:coreProperties>
</file>