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0E66-45EA-4998-82B2-A6EA92DB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D19E-A0A3-432A-9FFF-055F81B1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CFDF-9DD8-4572-892B-8E60350F1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5809-810D-4688-9569-2DE2D136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3718-AAB8-4CC4-8DCE-1EB67425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EF81-A56A-4199-876F-00BEA8D0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632A-42EA-4F9F-A15E-27C08BCD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B307-2F4D-48E0-AF04-52C78E37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14C6-C3F6-4C13-8BA9-8E83FBFD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E6A0-7F7D-4D93-81DD-01DF0BE0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FF73-0B05-4E52-B617-EF0B5C53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C694-52A2-4D4C-AA2F-1FA49ED4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930B-B224-4B6E-ADA1-070F574DB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5206-E00F-427B-AC40-857E59729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 Functions for SD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-Shiuh Shi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B952-4EEC-48A9-A16F-FB5DE6B2C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byte(unsigned char byte_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art_put_char(ASCII[byte_data/16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art_put_char(ASCII[byte_data%16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word(unsigned int word_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art_put_byte(word_data/256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art_put_byte(word_data%256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BFCB-4567-4B46-8CAD-6DA4AAA06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-ex.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&lt;at89x51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"uart.c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main( voi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i,j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r s[7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art_initializ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art_put_string("Name: ");uart_get_string(s);uart_put_char('\n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art_put_string("Hello, ");uart_put_string(s);uart_put_char('\n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art_put_string("i: ");i=uart_get_integer();uart_put_char('\n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art_put_string("j: ");j=uart_get_integer();uart_put_char('\n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art_put_integer(i);uart_put_string(" *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art_put_integer(j);uart_put_string(" =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art_put_integer(i*j);uart_put_char('\n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(1==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661A-F2EA-4D97-933F-8D44F349C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 Functions for SD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art.c is a library of Universal Asynchronous Receiver/Transmitter (UART) functions for Small Device C Compiler (SDCC), including character, string, integer I/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a Term Pro V2.3, by T. Teranishi, is a free software terminal emulator supporting serial port (RS232) and TCP/IP (telnet) conne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54F1-3126-4D49-8E58-3BA2E2E30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 Functions for SDC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RS232"/>
          <p:cNvPicPr/>
          <p:nvPr/>
        </p:nvPicPr>
        <p:blipFill>
          <a:blip r:embed="rId1"/>
          <a:stretch/>
        </p:blipFill>
        <p:spPr>
          <a:xfrm>
            <a:off x="2171880" y="1847880"/>
            <a:ext cx="48006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C973-EB2F-4787-8B90-89CDEC2E3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.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UART functions for SDCC by Chin-Shiuh Shieh on 2011-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uart_initialize() should be called before using U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UART function 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initialize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char(char c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uart_get_char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uart_get_char_echo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string(char *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get_string(char *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i2s(int i,char *s)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Convert Integer to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uart_s2i(char *s)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Convert String to Inte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integer(int 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uart_get_integer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byte(unsigned char byte_dat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word(unsigned int  word_dat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__code char uart_ASCII[]="0123456789ABCDEF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2424-67B7-4501-AB4D-238ED94DB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initialize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CON&amp;=0x7F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Clear SMOD of PCON, No Double Baud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MOD&amp;=0x2F;TMOD|=0x2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et Timer1 to 8-bit auto reload mode for Baud Rat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1=0xFD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et Baud Rate to 9600 bps for 11.0592M 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M0=0;SM1=1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et UART to Mode 1 (8-bit UAR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N=1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et REN of SCON to Enable UART Rece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1=1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et TR1 of TCON to Start Time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=0;RI=0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Clear TI/RI to Get Ready to Send/Rece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F859-3CE0-46D6-95AD-816410FBE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char(char c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Put Character to U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BUF=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TI==0);TI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uart_get_char(void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Get Character from U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RI==0);RI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BU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uart_get_char_echo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Get Character from UART with Echo, Require uart_put_char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RI==0);RI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art_put_char(SBUF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BU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174E-8671-41BA-A73E-8A9AF4B89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string(char *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Put String to UART, Require uart_put_char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*s!=0){uart_put_char(*s);s++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get_string(char *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Get String from UART, Require uart_get_char_echo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((*s)=uart_get_char_echo())!=13)s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s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7D16-E071-438C-87FC-B9FA6BB48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i2s(int i,char *s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Convert Integer to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sign;unsigned char len;char *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='+';len=0;p=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i&lt;0){sign='-';i=-i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{*s=(i%10)+'0';s++;len++;i/=10;}while(i!=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sign=='-'){*s='-';s++;len++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(i=0;i&lt;len/2;i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p[len]=p[i];p[i]=p[len-1-i];p[len-1-i]=p[len]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[len]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integer(int 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s[7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art_i2s(i,s);uart_put_string(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9831-6153-4B92-BCBB-2BCAEA777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uart_s2i(char *s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Convert String to Inte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=0;char sign='+'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*s=='-'){sign='-';s++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*s!=0){i=i*10+(*s-'0');s++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sign=='-')i=-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uart_get_integer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s[7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art_get_string(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uart_s2i(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6:36:20Z</dcterms:created>
  <dc:creator>謝欽旭</dc:creator>
  <dc:description/>
  <dc:language>en-US</dc:language>
  <cp:lastModifiedBy>csshieh</cp:lastModifiedBy>
  <dcterms:modified xsi:type="dcterms:W3CDTF">2021-11-03T16:25:23Z</dcterms:modified>
  <cp:revision>11</cp:revision>
  <dc:subject/>
  <dc:title>UART Functions for SDCC</dc:title>
</cp:coreProperties>
</file>