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0F5-11B1-4E95-9C54-F824A2EA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399-565A-40AA-AC60-4E1E982F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F9E-16A4-4DD1-A8A7-F3D75649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4CE-96E6-4A94-85A2-9556B59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69F-5B6C-44E2-BA37-8F40C05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32F-BDA5-4E2E-9A13-B5635FF6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C46-6058-45B7-B22D-B66B1722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96F-6E18-494D-A3C2-FD925DC0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730-EE01-4B09-8FA6-F60F25D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36D-9680-4A9E-9915-CBC9FC6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885-4662-4D62-92E1-4AAF2B0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E85-B7C0-48F1-B696-2A53699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B793-D72D-47F8-AEDB-1151B4DB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925560" y="757080"/>
            <a:ext cx="72928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x xxxx xxxx x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0000 0000 0000 = 6000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 1111 1111 1111 = 7FFF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21:15Z</dcterms:created>
  <dc:creator>謝欽旭</dc:creator>
  <dc:description/>
  <dc:language>en-US</dc:language>
  <cp:lastModifiedBy>csshieh</cp:lastModifiedBy>
  <dcterms:modified xsi:type="dcterms:W3CDTF">2018-12-14T12:51:08Z</dcterms:modified>
  <cp:revision>4</cp:revision>
  <dc:subject/>
  <dc:title>投影片 1</dc:title>
</cp:coreProperties>
</file>